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9D47-609B-40EF-AFC3-B3D9CB004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65DF-2B7B-474B-BE32-E4D4D643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F3AB-20D5-42F0-A3D6-28AFF0632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AFA0-1B38-4971-A25A-FD4E16EE3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1048-ABB8-4734-A70B-753E5890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2B75-8159-4ED0-B464-66A5950F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3A8B-FC78-4B0D-8AB8-B103D37E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1050-7E31-4E7C-8A75-92A852AE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E28F-5A88-4381-BA84-F8FC309F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8FC6-71F1-45A7-9F8F-6F4CE842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4E72-B2A3-44FD-9521-A32D8E4B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0B94-B089-4986-A19B-E27D119B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9E4D-D594-4670-8602-90294D4C6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nventors.about.com/od/rstartinventions/a/Rubik_Cube.htm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freeplaymusic.com/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eb.mit.edu/invent/iow/rubik.html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19320" y="685800"/>
            <a:ext cx="63244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ubik's Cub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6172200" y="4267080"/>
            <a:ext cx="2492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8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5024520"/>
            <a:ext cx="3886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.com: Inventors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ubik and the Cube – Rubik’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e, March 9, 201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nventors.about.com/od/rstartinventions/a/Rubik_Cube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371600" y="3048120"/>
            <a:ext cx="1671480" cy="1752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48120" y="3276720"/>
            <a:ext cx="2133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ubik’s cube has many alignments, but only one is corr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6248520"/>
            <a:ext cx="861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nd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eppin Up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rch 11, 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4724280" y="5257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Safar"/>
          <p:cNvPicPr/>
          <p:nvPr/>
        </p:nvPicPr>
        <p:blipFill>
          <a:blip r:embed="rId1"/>
          <a:stretch/>
        </p:blipFill>
        <p:spPr>
          <a:xfrm>
            <a:off x="533520" y="1066680"/>
            <a:ext cx="2666880" cy="3810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" y="2286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no Rubik invented the Rubik’s Cu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5410080"/>
            <a:ext cx="7162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ubik’s Cube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rch 9, 2010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rubik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Safar"/>
          <p:cNvPicPr/>
          <p:nvPr/>
        </p:nvPicPr>
        <p:blipFill>
          <a:blip r:embed="rId3"/>
          <a:srcRect l="0" t="0" r="24661" b="0"/>
          <a:stretch/>
        </p:blipFill>
        <p:spPr>
          <a:xfrm>
            <a:off x="4419720" y="838080"/>
            <a:ext cx="4190760" cy="2106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419720" y="3200400"/>
            <a:ext cx="430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ubik’s Cube is a cube with 24 squ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 and 54 outer su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d1fe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Rubik’s Cu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no Rubik wanted to put a three column cube together as a challenge to him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n, Erno made a prototype with 26 square components and 54 outer su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possible alignments is in the multi millions, but only one is perf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ame was an instant hit with students and Erno took it to the Hungarian toy marketplace in 197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first, it was named the Magic Cube, but it was changed to be named after Erno Rub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, it is still used as a toy as well as a teaching tool in different fiel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50000">
              <a:srgbClr val="ff9933"/>
            </a:gs>
            <a:gs pos="100000">
              <a:srgbClr val="ff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Erno Rubi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no Rubik was born in Budapest, Hungary in 194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earned his degree in architecture in 196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became a teacher in the interior design department at the Academy of Applied Arts and Crafts in Budap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father was an engineer and glider designer and his mother was a writer and art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no’s interest in 3 dimensional objects played a large part in his creation of the Rubik’s cu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4:14:52Z</dcterms:created>
  <dc:creator>install</dc:creator>
  <dc:description/>
  <dc:language>en-US</dc:language>
  <cp:lastModifiedBy>install</cp:lastModifiedBy>
  <dcterms:modified xsi:type="dcterms:W3CDTF">2010-03-18T13:40:55Z</dcterms:modified>
  <cp:revision>7</cp:revision>
  <dc:subject/>
  <dc:title>Slide 1</dc:title>
</cp:coreProperties>
</file>